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11A-4B46-414A-8FB5-3F0E1BD7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02C-9A41-4FFE-865C-B74EC4B7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DC5-ABB7-4408-B65F-5E98E874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EA3-4C3A-40AF-9420-453E051E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BF63-47F2-4F3A-AB97-8FEE174F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87D5-BB71-4153-834F-984729ED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7A7D-C33B-4AA8-BD18-471CCB67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B2F3-8C00-4429-B97A-68EB214B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AC19-EB14-43D9-B9FE-5A2F2CFA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C4A7-DADB-4731-9E60-A9079605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108B-B927-4732-A4DC-FB0127A2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DA3-E78C-461B-B19F-902C27FE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F970-1055-446D-8CEA-9BBEE913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C262-8A3E-4766-9684-94665D74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FF26-51CD-427D-A83A-4BB593D6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6265-D3D2-4E3E-A152-FCDA9C1E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9425-0E3C-41F2-A229-9B204031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3BA-4173-4D20-9B4B-2DE2AB19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607-C6E4-45BD-BAD9-16E168FE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8C5-84A2-43D7-9E50-263E12ED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D3B-8769-45DB-A072-2CEA73DC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C19-0248-4637-93D1-59DEC43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967-DA34-4E05-8696-EFC1532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E4D-2C20-4965-8F62-2D567F50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481F-C156-461E-924E-CEC60C46639D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C40D-BB0A-418B-B9BB-17BB7A1BF8ED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cal Equatio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olv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olve an equation involving radicals signs, you must get the radical sign alone on one (or both) side(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radical sign(s) is alone, square or cube both sides in order to clear the radical 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solve like a normal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2057400"/>
                <a:ext cx="2581560" cy="36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2290680" y="2057400"/>
                <a:ext cx="3792600" cy="36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/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606680" y="2019240"/>
                <a:ext cx="516096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/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e>
                      <m:e/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8:40:54Z</dcterms:created>
  <dc:creator>Parkland High School</dc:creator>
  <dc:description/>
  <dc:language>en-US</dc:language>
  <cp:lastModifiedBy>test</cp:lastModifiedBy>
  <dcterms:modified xsi:type="dcterms:W3CDTF">2015-05-12T17:07:40Z</dcterms:modified>
  <cp:revision>4</cp:revision>
  <dc:subject/>
  <dc:title>Section 7.3</dc:title>
</cp:coreProperties>
</file>